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6A7-1826-4A9C-9A22-30EA0D4B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0779-37DF-477B-97D1-62809BEA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0D79-E6D2-4B45-B246-4BE77D9F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95D-6E57-453D-B869-034C17D5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279B-8241-4DC4-AC31-57367A8A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64E0-B2FB-40C2-9D31-6C06E21E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1345-1841-47E1-BF24-06204275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29C4-0D55-48C2-98B0-6DD98556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6FD7-387E-489F-BBC5-3234E86A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5C66-C643-4C90-ADC8-BFF17EC1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656C-5AD8-468D-9021-2A371D89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F47E-803A-4EFD-81CB-58725E2B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9D6C-88BA-44FB-8AC2-CCFA38A8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7EB2-AFD0-44E4-AEBD-1D942F34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1A69-8F36-4257-B3D7-24AD554B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DB50-78BF-483A-A8E7-87D7415E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E4AC-AD49-4619-BE91-1641E84A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E63A-18AB-4E2B-8F6A-EC2440A7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E49D-B49D-48D5-A50A-CAC315AA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D950-E3D0-424F-B4B7-81833B20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7C88-59E1-46A1-9D70-A7449D98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8B3C-31EE-4E8D-A4A7-6B5B392D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BDE1-D227-466E-B26C-43F7100D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DC84-FD6A-430C-8A6E-D1B45C9F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9963-B550-405A-BA21-BA64EB4F30D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0DDC-212C-4469-9CCE-F4567E8267D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8480" y="5335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uesday Topic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7680" y="1523880"/>
            <a:ext cx="889632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ntrance task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Write a four line inspirational verse that promotes “nationalism” in this class and this peri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Toda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Nationalism &amp; unification in Ita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Homework du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Ch. 25-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Tonight’s homework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(due Thursday) Ch. 25-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uidance scheduling tomorrow :+(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066680"/>
            <a:ext cx="8077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uropean Nationalism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trong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votion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 one’s country, develops within a group of people who share common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anguag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history, goals, and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radi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talian Nationalism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         Italy was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 divided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untry during earl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800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         Nationalism in Italy directed at ending foreign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omin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oals of Italian Nationalism known as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“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isogement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” was unification and democrac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06668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aders of Italian Nationalis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zzini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oul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f Italian unif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med 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oung Ital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” an organization to remove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ustrian control and set up Italian Republi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066680"/>
            <a:ext cx="807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aders of Italian Nationalis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2.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vour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rains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f Italian unif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veloped plan to unify Ita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*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ime Minis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f Sardinia-Piedmont und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ing Victor Emmanuel I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* formed alliances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rance &amp; Prussia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hich allowe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is military to forc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stria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ut of Ital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3735360"/>
            <a:ext cx="270360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06668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aders of Italian Nationalis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 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aribaldi -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word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f Italian unif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ganize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Red Shirts”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who fought for control of Sici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d south Ita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united people of south Italy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ardinia-Piedmo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019920" y="2971800"/>
            <a:ext cx="285732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58975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535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819520" y="3056040"/>
            <a:ext cx="3751200" cy="3801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5800" y="10666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taly was formed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61,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ing Victor Emmanuel II was it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mited Monar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1870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rench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roops guard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Pope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in Rome left and Italian troops took over the city, establishing it as the Italian capit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3:50:21Z</dcterms:created>
  <dc:creator>Computer Services</dc:creator>
  <dc:description/>
  <dc:language>en-US</dc:language>
  <cp:lastModifiedBy>Susan Vanderpool</cp:lastModifiedBy>
  <dcterms:modified xsi:type="dcterms:W3CDTF">2007-04-04T02:09:35Z</dcterms:modified>
  <cp:revision>1</cp:revision>
  <dc:subject/>
  <dc:title>Tuesday Topics</dc:title>
</cp:coreProperties>
</file>